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wmf" ContentType="image/x-wmf"/>
  <Override PartName="/ppt/media/image4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20.png" ContentType="image/png"/>
  <Override PartName="/ppt/media/image17.gif" ContentType="image/gif"/>
  <Override PartName="/ppt/media/image2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3.jpeg" ContentType="image/jpeg"/>
  <Override PartName="/ppt/media/chimes.wav" ContentType="audio/x-wav"/>
  <Override PartName="/ppt/media/image16.png" ContentType="image/png"/>
  <Override PartName="/ppt/media/image1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520-7D6A-413E-A7F9-64ED26C0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29C-4295-4365-B69F-50970E5C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66A-3431-4F7F-B7C9-6BA48523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25C-8585-4EC3-A85E-FBE8618D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B44-2657-487E-83C0-466941EA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3C3-41C4-450A-8DA5-078B7A96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410-4DB9-4BB7-8362-44CB4DB2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0D0-E659-489D-BF19-8C14B4BF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59C-612F-443D-BA6C-8664D402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6A5-B8AA-49CD-9420-F6FA077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843-595D-4588-9AD0-FF9311E3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03E-2420-4E98-9069-8FCDF13F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0FEB-012B-40DC-A4AF-59E927C28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file:///Check%20your%20understanding.notebook" TargetMode="External"/><Relationship Id="rId4" Type="http://schemas.openxmlformats.org/officeDocument/2006/relationships/hyperlink" Target="file:///Check%20your%20understanding.notebook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Word%20Problems%20for%20Pythagorean%20Theorem.notebook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ienceworld.wolfram.com/biography/photo-credits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3920" y="761760"/>
            <a:ext cx="4038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ythagorean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952880"/>
            <a:ext cx="4267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inda O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38480" y="2581200"/>
            <a:ext cx="4648320" cy="427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733920" y="2819520"/>
            <a:ext cx="2743200" cy="2959200"/>
            <a:chOff x="3733920" y="2819520"/>
            <a:chExt cx="2743200" cy="2959200"/>
          </a:xfrm>
        </p:grpSpPr>
        <p:sp>
          <p:nvSpPr>
            <p:cNvPr id="84" name=""/>
            <p:cNvSpPr/>
            <p:nvPr/>
          </p:nvSpPr>
          <p:spPr>
            <a:xfrm flipH="1">
              <a:off x="3733920" y="2819520"/>
              <a:ext cx="1828800" cy="251460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3412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3400" y="54104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15000" y="41148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911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971800" y="457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copy out the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1066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2200" y="1752480"/>
            <a:ext cx="61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hypoten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” in the formul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lways the side opposite the right ang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4343400"/>
            <a:ext cx="1066680" cy="914400"/>
          </a:xfrm>
          <a:prstGeom prst="line">
            <a:avLst/>
          </a:prstGeom>
          <a:ln w="507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7560" y="5715000"/>
            <a:ext cx="45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the substitutions into the form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6095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276720"/>
            <a:ext cx="1676520" cy="18828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it doesn’t matter which of the two side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or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2438280" cy="60984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905120" y="4343040"/>
            <a:ext cx="3809880" cy="60948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8120" y="3200400"/>
            <a:ext cx="2133360" cy="9144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th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1447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362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 + 64 =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86440" y="335268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 =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200400" y="4272120"/>
                <a:ext cx="20574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352680" y="53341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048120"/>
            <a:ext cx="2895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ind the value of 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to do the opposite function of squaring a numb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pposite function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√ (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e ro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371600"/>
            <a:ext cx="19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DMAS tells us to do the exponents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840" y="24382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a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400800" y="2057400"/>
            <a:ext cx="2743200" cy="2959200"/>
            <a:chOff x="6400800" y="2057400"/>
            <a:chExt cx="2743200" cy="2959200"/>
          </a:xfrm>
        </p:grpSpPr>
        <p:sp>
          <p:nvSpPr>
            <p:cNvPr id="109" name=""/>
            <p:cNvSpPr/>
            <p:nvPr/>
          </p:nvSpPr>
          <p:spPr>
            <a:xfrm flipH="1">
              <a:off x="6400800" y="2057400"/>
              <a:ext cx="1828800" cy="251460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1000" y="43434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10280" y="46483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1880" y="3352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5800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86720" y="3352680"/>
            <a:ext cx="2253600" cy="5205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8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2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867280" y="2057400"/>
            <a:ext cx="1828800" cy="25146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434340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648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3352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2895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if one of the sides is miss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666880" y="5105520"/>
            <a:ext cx="2362320" cy="609480"/>
            <a:chOff x="2666880" y="5105520"/>
            <a:chExt cx="2362320" cy="609480"/>
          </a:xfrm>
        </p:grpSpPr>
        <p:sp>
          <p:nvSpPr>
            <p:cNvPr id="122" name=""/>
            <p:cNvSpPr/>
            <p:nvPr/>
          </p:nvSpPr>
          <p:spPr>
            <a:xfrm>
              <a:off x="2666880" y="5105520"/>
              <a:ext cx="2362320" cy="6094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2895480" y="51292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4" name=""/>
          <p:cNvSpPr/>
          <p:nvPr/>
        </p:nvSpPr>
        <p:spPr>
          <a:xfrm>
            <a:off x="381240" y="1066680"/>
            <a:ext cx="40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start by writing the form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00" y="1447920"/>
            <a:ext cx="1905840" cy="5205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1600" y="20574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the substit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7240" y="2590920"/>
            <a:ext cx="2085840" cy="5205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35480" y="3352680"/>
            <a:ext cx="2238120" cy="642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late th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rid of the +81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9625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-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5360" y="3352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-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505320"/>
            <a:ext cx="685800" cy="38088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038480"/>
            <a:ext cx="685800" cy="38124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4038480"/>
            <a:ext cx="1066680" cy="36828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the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360" y="5105520"/>
            <a:ext cx="1550880" cy="5205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0240" y="5943600"/>
            <a:ext cx="55756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solate the variable, do the opposite fun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the square root of each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1320" y="5105520"/>
            <a:ext cx="1828800" cy="609480"/>
            <a:chOff x="5791320" y="5105520"/>
            <a:chExt cx="1828800" cy="609480"/>
          </a:xfrm>
        </p:grpSpPr>
        <p:sp>
          <p:nvSpPr>
            <p:cNvPr id="138" name=""/>
            <p:cNvSpPr/>
            <p:nvPr/>
          </p:nvSpPr>
          <p:spPr>
            <a:xfrm>
              <a:off x="5791320" y="5105520"/>
              <a:ext cx="1828800" cy="6094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6172200" y="5218200"/>
                  <a:ext cx="9907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>
            <a:off x="3276720" y="2666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and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447920"/>
            <a:ext cx="3886200" cy="78552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 is always the hypoten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de opposite the right a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629040" y="3657600"/>
            <a:ext cx="1066680" cy="838080"/>
          </a:xfrm>
          <a:prstGeom prst="line">
            <a:avLst/>
          </a:prstGeom>
          <a:ln w="82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Pythagorean Theorem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 for the missing s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2438280"/>
            <a:ext cx="4800600" cy="1600200"/>
            <a:chOff x="2743200" y="2438280"/>
            <a:chExt cx="4800600" cy="1600200"/>
          </a:xfrm>
        </p:grpSpPr>
        <p:sp>
          <p:nvSpPr>
            <p:cNvPr id="145" name=""/>
            <p:cNvSpPr/>
            <p:nvPr/>
          </p:nvSpPr>
          <p:spPr>
            <a:xfrm>
              <a:off x="2743200" y="2438280"/>
              <a:ext cx="4800600" cy="1600200"/>
            </a:xfrm>
            <a:prstGeom prst="rtTriangle">
              <a:avLst/>
            </a:prstGeom>
            <a:solidFill>
              <a:srgbClr val="cc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3809880"/>
              <a:ext cx="228600" cy="2286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6002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24280" y="2590920"/>
                <a:ext cx="3556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0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lve for </a:t>
            </a:r>
            <a:r>
              <a:rPr b="1" lang="el-GR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7534400">
            <a:off x="2585880" y="2411280"/>
            <a:ext cx="2271600" cy="3189240"/>
          </a:xfrm>
          <a:prstGeom prst="rtTriangle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7534400">
            <a:off x="4604400" y="5421960"/>
            <a:ext cx="169920" cy="231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257800" y="4724280"/>
                <a:ext cx="3556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 rot="1368000">
            <a:off x="2590200" y="51051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698800">
            <a:off x="2895480" y="358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286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eck your understanding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al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ythagorean Theorem is used in everyday life all the ti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enters use it to check to see if a structure is squ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know two sides of any right angle triangle, you can calculate the length of the unknown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668760" cy="4800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eball diamond consists of four bases each 90 ft apart situated at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 angles from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catcher tries to throw out a runner at second base, how far does he throw the 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248520" y="5334120"/>
            <a:ext cx="1066680" cy="94752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5181480" y="2971800"/>
            <a:ext cx="3124440" cy="2197080"/>
            <a:chOff x="5181480" y="2971800"/>
            <a:chExt cx="3124440" cy="2197080"/>
          </a:xfrm>
        </p:grpSpPr>
        <p:sp>
          <p:nvSpPr>
            <p:cNvPr id="168" name=""/>
            <p:cNvSpPr/>
            <p:nvPr/>
          </p:nvSpPr>
          <p:spPr>
            <a:xfrm>
              <a:off x="5334120" y="2971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0120" y="4800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81480" y="4724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2971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>
            <a:off x="6781680" y="2437920"/>
            <a:ext cx="0" cy="30481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SenteoPPTControl1"/>
          <p:cNvGraphicFramePr/>
          <p:nvPr/>
        </p:nvGraphicFramePr>
        <p:xfrm>
          <a:off x="0" y="0"/>
          <a:ext cx="213372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SenteoPPTControl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1337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390528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ound the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27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o fix a window that is 12 ft high from the ground.  You have a bush at the bottom of the window, so you will need to place the ladder back 3 ft from the base of the house.  How long will the ladder need to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 rot="20077200">
            <a:off x="7162920" y="4724280"/>
            <a:ext cx="771480" cy="1428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477120" y="5562720"/>
            <a:ext cx="761760" cy="53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SenteoPPTControl1"/>
          <p:cNvGraphicFramePr/>
          <p:nvPr/>
        </p:nvGraphicFramePr>
        <p:xfrm>
          <a:off x="4114800" y="1219320"/>
          <a:ext cx="205740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SenteoPPTControl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1219320"/>
                    <a:ext cx="20574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609480" y="6019920"/>
            <a:ext cx="457200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 Ladders can only be bought in full feet, not decim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 4, 5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penters use the “3, 4, 5 Rule” to make sure that a deck is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easure a spot on one side and mark the 3 ft li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easure a spot on the other side and mark the 4 f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measurement between the two marks equals 5 ft, they know the deck is “square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this by using the Pythagorean Theor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1295280"/>
            <a:ext cx="335268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34120" y="4495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6095880"/>
            <a:ext cx="2438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4495680"/>
            <a:ext cx="2286000" cy="1524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Some more Practical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actic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ythagor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agoras lived in the 500's BC, and was one of the first Greek mathematical thin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295280"/>
            <a:ext cx="339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-78840"/>
            <a:ext cx="858672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ester"/>
              </a:rPr>
              <a:t>The Egyptians knew that a triangle with sides 3, 4, and 5 make a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Jester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Jester"/>
              </a:rPr>
              <a:t> angle. As a matter of fact, they had a rope with 12 evenly spaced knots like this 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ester"/>
              </a:rPr>
              <a:t>that they used to build perfect corners in their buildings and pyramids. It is believed that they only knew about the 3, 4, 5 triangle and not the general theorem that applies to all right tri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706920" y="2568600"/>
            <a:ext cx="245772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3276720" cy="240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1676520"/>
            <a:ext cx="1233360" cy="3044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38080" y="1676520"/>
            <a:ext cx="1135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y is it called the Pythagorean Theor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though the theorem was known long before his time, Pythagoras generalized it and made it popu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Pythagoras who is attributed with its first geometrical demonst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7143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square described upon the hypotenuse of a right-angled triangle is equal to the sum of the squares described upon the other two s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2865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eore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n simple ter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 the two shorter sides in a right triangle are squared and then added, the sum equals the square of the longest side or hypotenu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2616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eore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n pictu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5146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m Pro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496040" cy="4047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148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9400" y="289548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9160" y="198108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5410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23200" y="5791320"/>
            <a:ext cx="14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61722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+ 16 =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15160" y="285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924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ing the Unknown S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4680" y="548640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sketch the diagram into your note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200400" y="1828800"/>
            <a:ext cx="2743200" cy="2959200"/>
            <a:chOff x="3200400" y="1828800"/>
            <a:chExt cx="2743200" cy="2959200"/>
          </a:xfrm>
        </p:grpSpPr>
        <p:sp>
          <p:nvSpPr>
            <p:cNvPr id="78" name=""/>
            <p:cNvSpPr/>
            <p:nvPr/>
          </p:nvSpPr>
          <p:spPr>
            <a:xfrm flipH="1">
              <a:off x="3200400" y="1828800"/>
              <a:ext cx="1828800" cy="251460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0600" y="41148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9880" y="44197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1480" y="31240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57600" y="266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6:29:00Z</dcterms:created>
  <dc:creator>admin</dc:creator>
  <dc:description/>
  <dc:language>en-US</dc:language>
  <cp:lastModifiedBy>admin</cp:lastModifiedBy>
  <dcterms:modified xsi:type="dcterms:W3CDTF">2008-04-06T19:29:35Z</dcterms:modified>
  <cp:revision>19</cp:revision>
  <dc:subject/>
  <dc:title>Pythagorean Theory</dc:title>
</cp:coreProperties>
</file>